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D741-1BDA-4FA4-ACFB-9F0C3679A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C319-EDE5-4E18-B71B-37FC2E6D2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7A17-FA69-49E4-860E-AF11A88DC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5E5E-6102-4173-AFDB-C297F4B32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B444-D03D-4ADC-8EBA-4C91286EB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94EA-3C4C-432F-8BF4-625E90F2F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E804-16B0-409A-8F68-8BCA1E1BE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91C9-BC83-4403-96AE-E70AA99F0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A89E-5614-4CE9-BACF-8AD4668BD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3C0D-40FC-44D2-A4EF-EDEB96FA5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F3AD-C1D9-4D60-B2B5-EADB5F61C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48BD-2169-4491-B6AF-AA44E4291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4F0BB-18E9-4F60-B855-4EF234BCC57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200932606548976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01"/>
          <p:cNvPicPr/>
          <p:nvPr/>
        </p:nvPicPr>
        <p:blipFill>
          <a:blip r:embed="rId2"/>
          <a:stretch/>
        </p:blipFill>
        <p:spPr>
          <a:xfrm>
            <a:off x="357120" y="357120"/>
            <a:ext cx="8286840" cy="607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图片 1" descr="696c69f02464db8ea50f526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1"/>
          <p:cNvSpPr/>
          <p:nvPr/>
        </p:nvSpPr>
        <p:spPr>
          <a:xfrm>
            <a:off x="142920" y="238680"/>
            <a:ext cx="9144000" cy="53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jǐ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谨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hāo  qǐ  zǎo   yè  mián  chí   lǎo  yì  zhì      xī  cǐ  sh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朝 起 早   夜 眠 迟   老 易 至   惜 此 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én  bì  guan  jiān  shù  kǒu  biàn niào  huí   zhé  jìng  shǒ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晨 必 盥     兼 漱 口   便 溺 回    辄 净 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uān  bì zhèng  niǔ  bì   jié      wà  yǔ  lǚ      jù  jǐn  qi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冠 必 正    纽 必 结   袜 与 履   俱 紧 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hì  guān  fú   yǒu  ding wèi    wù  luàn dùn    zhì  wū  huì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置 冠 服   有 定 位     勿 乱 顿   致 污 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图片 1" descr="696c69f02464db8ea50f526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1"/>
          <p:cNvSpPr/>
          <p:nvPr/>
        </p:nvSpPr>
        <p:spPr>
          <a:xfrm>
            <a:off x="142920" y="310320"/>
            <a:ext cx="914400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yī  guì  jié     bú  guì  huá   shàng xún fèn    xià  chèn  ji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衣 贵 洁   不 贵 华   上 循 分   下 称 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uì  yǐn  shí    wù  jiǎn  zé     shí  shì  kě     wù  guò  z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对 饮 食   勿 拣 择   食 适 可   勿 过 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ián fāng  shào  wù  yǐn  jiǔ     yǐn  jiǔ  zuì    zuì  wéi  chǒ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年 方 少   勿 饮 酒    饮 酒 醉    最 为 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ù  cōng róng    lì  duān zhèng  yī  shēn yuán   bài  gōng  jì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步 从 容     立 端 正     揖 深 圆    拜 恭 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ù  jiàn  yù      wù  bǒ  yǐ       wù  jī   jù       wù  yáo  b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勿 践 阈   勿 跛 倚   勿 箕 踞   勿 摇 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图片 1" descr="696c69f02464db8ea50f526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1"/>
          <p:cNvSpPr/>
          <p:nvPr/>
        </p:nvSpPr>
        <p:spPr>
          <a:xfrm>
            <a:off x="142920" y="519120"/>
            <a:ext cx="9144000" cy="42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uǎn  jiē  lián   wù  yǒu shēng  kuān zhuǎn wān  wù  chù lé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缓 揭 帘   勿 有 声     宽 转 弯   勿 触 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hí  xū  qì       rú   zhí  yíng      rù   xū  shì     rú  yǒu  ré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执 虚 器   如 执 盈    入 虚 室   如 有 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ì  wù  máng  máng duō cuò    wù  wèi  nán   wù  qīng  lü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事 勿 忙    忙 多 错     勿 畏 难   勿 轻 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òu  nào chǎng  jué  wù  jìn      xié  pì  shì     jué  wù  wè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斗 闹 场     绝 勿 近    邪 僻 事   绝 勿 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图片 1" descr="696c69f02464db8ea50f526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1"/>
          <p:cNvSpPr/>
          <p:nvPr/>
        </p:nvSpPr>
        <p:spPr>
          <a:xfrm>
            <a:off x="142920" y="313200"/>
            <a:ext cx="9572760" cy="49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jiāng  rù  mén  wèn  shú  cún  jiāng shàng táng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ēng  bì  yáng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将 入 门   问 孰 存   将 上 堂   声 必 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én  wèn shuí   duì  yǐ  míng    wú  yǔ  wǒ     bù  fēn  mí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人 问 谁   对 以 名   吾 与 我   不 分 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yòn grén  wù    xū  míng  qiú   tǎng bù  wèn     jí   wéi  tō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用 人 物   须 明 求   倘 不 问   即 为 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jiè  rén  wù      jí  shí  huán    hòu  yǒu  jí     jiè  bù  ná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借 人 物   及 时 还    后 有 急   借 不 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图片 1" descr="2009421010463082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1"/>
          <p:cNvSpPr/>
          <p:nvPr/>
        </p:nvSpPr>
        <p:spPr>
          <a:xfrm>
            <a:off x="214200" y="524520"/>
            <a:ext cx="9144000" cy="53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3600" spc="-1" strike="noStrike">
                <a:solidFill>
                  <a:srgbClr val="0d0d0d"/>
                </a:solidFill>
                <a:latin typeface="Arial"/>
                <a:ea typeface="Arial"/>
              </a:rPr>
              <a:t>                             </a:t>
            </a:r>
            <a:r>
              <a:rPr b="1" lang="en-US" sz="3600" spc="-1" strike="noStrike">
                <a:solidFill>
                  <a:srgbClr val="0d0d0d"/>
                </a:solidFill>
                <a:latin typeface="Arial"/>
                <a:ea typeface="Arial"/>
              </a:rPr>
              <a:t>xì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3600" spc="-1" strike="noStrike">
                <a:solidFill>
                  <a:srgbClr val="0d0d0d"/>
                </a:solidFill>
                <a:latin typeface="Arial"/>
                <a:ea typeface="Arial"/>
              </a:rPr>
              <a:t>                           </a:t>
            </a:r>
            <a:r>
              <a:rPr b="1" lang="en-US" sz="3600" spc="-1" strike="noStrike">
                <a:solidFill>
                  <a:srgbClr val="0d0d0d"/>
                </a:solidFill>
                <a:latin typeface="Arial"/>
                <a:ea typeface="Arial"/>
              </a:rPr>
              <a:t>【</a:t>
            </a:r>
            <a:r>
              <a:rPr b="1" lang="zh-CN" sz="3600" spc="-1" strike="noStrike">
                <a:solidFill>
                  <a:srgbClr val="0d0d0d"/>
                </a:solidFill>
                <a:latin typeface="Arial"/>
                <a:ea typeface="Arial"/>
              </a:rPr>
              <a:t>信</a:t>
            </a:r>
            <a:r>
              <a:rPr b="1" lang="en-US" sz="3600" spc="-1" strike="noStrike">
                <a:solidFill>
                  <a:srgbClr val="0d0d0d"/>
                </a:solidFill>
                <a:latin typeface="Arial"/>
                <a:ea typeface="Arial"/>
              </a:rPr>
              <a:t>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Arial"/>
                <a:ea typeface="Arial"/>
              </a:rPr>
              <a:t>fán  chū  yán   xìn  wéi  xiān   zhà  yǔ  wàng   xī  kě  yā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Arial"/>
                <a:ea typeface="Arial"/>
              </a:rPr>
              <a:t>凡 出 言    信 为 先   诈 与 妄   奚 可 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Arial"/>
                <a:ea typeface="Arial"/>
              </a:rPr>
              <a:t>huà shuō duō    bù  rú  shǎo    wéi  qí  shì     wù  nìng  qiǎ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Arial"/>
                <a:ea typeface="Arial"/>
              </a:rPr>
              <a:t>话 说 多     不 如 少   惟 其 是   勿 佞 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Arial"/>
                <a:ea typeface="Arial"/>
              </a:rPr>
              <a:t>jiān  qiǎo  yǔ   huì  wū  cí     shì  jǐng  qì     qiè  jiè  zhī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Arial"/>
                <a:ea typeface="Arial"/>
              </a:rPr>
              <a:t>奸 巧 语   秽 污 词   市 井 气   切 戒 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Arial"/>
                <a:ea typeface="Arial"/>
              </a:rPr>
              <a:t>jiàn wèi zhēn     wù qīng yán     zhī  wèi  dì     wù qīng chuá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Arial"/>
                <a:ea typeface="Arial"/>
              </a:rPr>
              <a:t>见 未 真     勿 轻 言   知 未 的   勿 轻 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图片 1" descr="2009421010463082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1"/>
          <p:cNvSpPr/>
          <p:nvPr/>
        </p:nvSpPr>
        <p:spPr>
          <a:xfrm>
            <a:off x="357120" y="667440"/>
            <a:ext cx="914400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ì  fēi  yí      wù qīng nuò     gǒu qīng nuò     jìn  tuì  cu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事 非 宜   勿 轻 诺   苟 轻 诺   进 退 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án  dào  zì    zhòng qiě shū     wù  jí   jí      wù  mó  hū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凡 道 字   重 且 舒   勿 急 疾   勿 模 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ǐ shuō cháng    cǐ shuō duǎn     bù  guān  jǐ    mò  xián  guǎ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彼 说 长     此 说 短    不 关 己    莫 闲 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jiàn rén shàn     jí    sī   qí      zòng qù yuǎn     yǐ   jiàn  j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见 人 善    即 思 齐   纵 去 远    以 渐 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jiàn  rén  è      jí   nèi  xǐng   yǒu  zé  gǎi     wú  jiā  jǐ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见 人 恶   即 内 省   有 则 改   无 加 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图片 1" descr="2009421010463082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1"/>
          <p:cNvSpPr/>
          <p:nvPr/>
        </p:nvSpPr>
        <p:spPr>
          <a:xfrm>
            <a:off x="285840" y="74016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éi  dé  xué    wéi  cái  yì     bù  rú   rén    dāng  zì  lì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唯 德 学   唯 才 艺   不 如 人   当 自 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uò  yī   fú      ruò  yǐn  shí    bù   rú  rén    wù  shēng q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若 衣 服   若 饮 食   不 如 人   勿 生 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én guò  nù    wén  yù  lè     sǔn  yǒu  lái     yì  yǒu  qu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闻 过 怒   闻 誉 乐   损 友 来   益 友 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én yù  kǒng  wén  guò  xīn     zhí liàng shì     jiàn xiāng qī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闻 誉 恐   闻 过 欣     直 谅 士     渐 相 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ú  xīn  fēi     míng wéi cuò     yǒu  xīn  fēi    míng wéi  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无 心 非   名 为 错    有 心 非   名 为 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uò néng gǎi     guī  yú  wú     tǎng yǎn shì    zēng  yì  gū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过 能 改    归 于 无   倘 掩 饰   增 一 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图片 1" descr="200952308374083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1"/>
          <p:cNvSpPr/>
          <p:nvPr/>
        </p:nvSpPr>
        <p:spPr>
          <a:xfrm>
            <a:off x="571680" y="600120"/>
            <a:ext cx="9144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àn ài zhò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泛 爱 众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án  shì  rén    jiē   xū   ài      tiān  tong fù     dì  tong  zà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凡 是 人   皆 须 爱   天 同 覆   地 同 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ìng gāo zhě    míng  zì  gāo    rén suǒ zhòng   fēi  mào  gā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行 高 者   名 自 高     人 所 重   非 貌 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ái  dà  zhě  wàng  zì  dà     rén  suǒ  fú    fēi   yán  d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才 大 者   望 自 大   人 所 服   非 言 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yǐ   yǒu néng    wù  zì   sī     rén  suǒ néng   wù  qīng  zī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己 有 能   勿 自 私   人 所 能   勿 轻 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图片 1" descr="200952308374083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1"/>
          <p:cNvSpPr/>
          <p:nvPr/>
        </p:nvSpPr>
        <p:spPr>
          <a:xfrm>
            <a:off x="500040" y="130320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ù  chǎn fù      wù  jiāo  pín    wù  yàn  gù    wù  xǐ   xī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勿 谄 富    勿 骄 贫   勿 厌 故   勿 喜 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én  bù  xián     wù  shì  jiǎo    rén  bù  ān    wù  huà  rǎ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人 不 闲    勿 事 搅   人 不 安   勿 话 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én  yǒu duǎn   qiè  mò  jiē     rén  yǒu  sī    qiè  mò  shu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人 有 短    切 莫 揭   人 有 私   切 莫 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ào rén shàn     jí   shì  shàn   rén  zhī  zhī    yù  sī  miǎ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道 人 善    即 是 善   人 知 之   愈 思 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1" descr="200952308374083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"/>
          <p:cNvSpPr/>
          <p:nvPr/>
        </p:nvSpPr>
        <p:spPr>
          <a:xfrm>
            <a:off x="571680" y="130320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yáng rén  è      jì   shì   è        jí  zhī  shèn   huò  qiě  zu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扬 人 恶   即 是 恶     疾 之 甚   祸 且 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àn xiāng quàn  dé  jiē  jiàn    guò  bù  guī    dào liǎng kuī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善 相 劝   德 皆 建     过 不 规   道 两 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án  qǔ  yǔ    guì  fēn  xiǎo      yǔ   yí   duō   qǔ   yí  shǎ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凡 取 与   贵 分 晓     与 宜 多   取 宜 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jiāng jiā  rén    xiān  wèn jǐ       jǐ   bú  yù         jí   sù  y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将 加 人   先 问 己     己 不 欲   即 速 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f5245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4"/>
          <p:cNvSpPr/>
          <p:nvPr/>
        </p:nvSpPr>
        <p:spPr>
          <a:xfrm>
            <a:off x="1071720" y="87480"/>
            <a:ext cx="707220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Arial"/>
              </a:rPr>
              <a:t>zǒng  x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Arial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Arial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Arial"/>
              </a:rPr>
              <a:t>总   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Arial"/>
              </a:rPr>
              <a:t>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Arial"/>
              </a:rPr>
              <a:t>dì  zǐ  guī     shèng rén xùn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Arial"/>
              </a:rPr>
              <a:t>弟   子  规      圣   人  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Arial"/>
              </a:rPr>
              <a:t>shǒu xiào tì     cì  jǐn  xì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Arial"/>
              </a:rPr>
              <a:t>首  孝  悌       次  谨  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Arial"/>
              </a:rPr>
              <a:t>fàn  ài zhòng    ér  qīn  ré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Arial"/>
              </a:rPr>
              <a:t>泛 爱 众         而  亲  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Arial"/>
              </a:rPr>
              <a:t>yǒu  yú  lì      zé  xué  wé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Arial"/>
              </a:rPr>
              <a:t>有  余  力       则  学   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图片 1" descr="200952308374083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1"/>
          <p:cNvSpPr/>
          <p:nvPr/>
        </p:nvSpPr>
        <p:spPr>
          <a:xfrm>
            <a:off x="676800" y="1449000"/>
            <a:ext cx="8924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ēn  yù  bào   yuàn  yù  wàng  bào yuàn duǎn   bào  ēn  chá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恩 欲 报   怨 欲 忘     抱 怨 短   报 恩 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ài  bì  pú     shēn guì duān    suī  guì  duān   cí   ér  kuā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待 婢 仆   身 贵 端    虽 贵 端   慈 而 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ì  fú  rén     xīn  bù  rán        lǐ   fú   rén   fāng  wú  yá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势 服 人   心 不 然     理 服 人   方 无 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1" descr="200934045310149.jpg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1"/>
          <p:cNvSpPr/>
          <p:nvPr/>
        </p:nvSpPr>
        <p:spPr>
          <a:xfrm>
            <a:off x="428760" y="567360"/>
            <a:ext cx="9144000" cy="56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2400" spc="-1" strike="noStrike">
                <a:solidFill>
                  <a:srgbClr val="0e1e20"/>
                </a:solidFill>
                <a:latin typeface="Arial"/>
                <a:ea typeface="Arial"/>
              </a:rPr>
              <a:t>                                        </a:t>
            </a:r>
            <a:r>
              <a:rPr b="1" lang="en-US" sz="2400" spc="-1" strike="noStrike">
                <a:solidFill>
                  <a:srgbClr val="0e1e20"/>
                </a:solidFill>
                <a:latin typeface="Arial"/>
                <a:ea typeface="Arial"/>
              </a:rPr>
              <a:t>qīn ré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3600" spc="-1" strike="noStrike">
                <a:solidFill>
                  <a:srgbClr val="0e1e20"/>
                </a:solidFill>
                <a:latin typeface="Arial"/>
                <a:ea typeface="Arial"/>
              </a:rPr>
              <a:t>                       </a:t>
            </a:r>
            <a:r>
              <a:rPr b="1" lang="en-US" sz="3600" spc="-1" strike="noStrike">
                <a:solidFill>
                  <a:srgbClr val="0e1e20"/>
                </a:solidFill>
                <a:latin typeface="Arial"/>
                <a:ea typeface="Arial"/>
              </a:rPr>
              <a:t>【</a:t>
            </a:r>
            <a:r>
              <a:rPr b="1" lang="zh-CN" sz="3600" spc="-1" strike="noStrike">
                <a:solidFill>
                  <a:srgbClr val="0e1e20"/>
                </a:solidFill>
                <a:latin typeface="Arial"/>
                <a:ea typeface="Arial"/>
              </a:rPr>
              <a:t>亲 仁</a:t>
            </a:r>
            <a:r>
              <a:rPr b="1" lang="en-US" sz="3600" spc="-1" strike="noStrike">
                <a:solidFill>
                  <a:srgbClr val="0e1e20"/>
                </a:solidFill>
                <a:latin typeface="Arial"/>
                <a:ea typeface="Arial"/>
              </a:rPr>
              <a:t>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2400" spc="-1" strike="noStrike">
                <a:solidFill>
                  <a:srgbClr val="0e1e20"/>
                </a:solidFill>
                <a:latin typeface="Arial"/>
                <a:ea typeface="Arial"/>
              </a:rPr>
              <a:t>tóng  shì  rén   lèi   bù  qí     liú  sú  zhòng  rén  zhě  xī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3600" spc="-1" strike="noStrike">
                <a:solidFill>
                  <a:srgbClr val="0e1e20"/>
                </a:solidFill>
                <a:latin typeface="Arial"/>
                <a:ea typeface="Arial"/>
              </a:rPr>
              <a:t>同 是 人   类 不 齐   流 俗 众   仁 者 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2400" spc="-1" strike="noStrike">
                <a:solidFill>
                  <a:srgbClr val="0e1e20"/>
                </a:solidFill>
                <a:latin typeface="Arial"/>
                <a:ea typeface="Arial"/>
              </a:rPr>
              <a:t>guǒ  rén  zhě  rén  duō  wèi    yán  bú  huì    sè  bú  mè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3600" spc="-1" strike="noStrike">
                <a:solidFill>
                  <a:srgbClr val="0e1e20"/>
                </a:solidFill>
                <a:latin typeface="Arial"/>
                <a:ea typeface="Arial"/>
              </a:rPr>
              <a:t>果 仁 者   人 多 畏   言 不 讳   色 不 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2400" spc="-1" strike="noStrike">
                <a:solidFill>
                  <a:srgbClr val="0e1e20"/>
                </a:solidFill>
                <a:latin typeface="Arial"/>
                <a:ea typeface="Arial"/>
              </a:rPr>
              <a:t>néng qīn rén    wú  xiàn  hǎo    dé   rì   jìn    guò  rì  shǎ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3600" spc="-1" strike="noStrike">
                <a:solidFill>
                  <a:srgbClr val="0e1e20"/>
                </a:solidFill>
                <a:latin typeface="Arial"/>
                <a:ea typeface="Arial"/>
              </a:rPr>
              <a:t>能 亲 仁   无 限 好   德 日 进   过 日 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2400" spc="-1" strike="noStrike">
                <a:solidFill>
                  <a:srgbClr val="0e1e20"/>
                </a:solidFill>
                <a:latin typeface="Arial"/>
                <a:ea typeface="Arial"/>
              </a:rPr>
              <a:t>bù  qīn  rén    wú  xiàn  hài   xiǎo  rén  jìn    bǎi  shì  huà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3600" spc="-1" strike="noStrike">
                <a:solidFill>
                  <a:srgbClr val="0e1e20"/>
                </a:solidFill>
                <a:latin typeface="Arial"/>
                <a:ea typeface="Arial"/>
              </a:rPr>
              <a:t>不 亲 仁   无 限 害   小 人 进   百 事 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1" descr="20093404531014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1"/>
          <p:cNvSpPr/>
          <p:nvPr/>
        </p:nvSpPr>
        <p:spPr>
          <a:xfrm>
            <a:off x="357120" y="665640"/>
            <a:ext cx="9144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yú lì xué wé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【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余力学文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ú  lì  xíng    dàn  xué wén  zhǎng  fú  huá  chéng  hé  ré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不 力 行   但 学 文   长 浮 华   成 何 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àn  lì  xíng    bù  xué  wén    rèn  jǐ   jiàn   mèi  lǐ  zhē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但 力 行   不 学 文   任 己 见   昧 理 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ú  shū  fǎ     yǒu  sān  dào   xīn  yǎn  kǒu   xìn  jiē  yà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读 书 法   有 三 到   心 眼 口   信 皆 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āng  dú  cǐ     wù  mù  bǐ      cǐ  wèi  zhōng  bǐ  wù  qǐ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方 读 此   勿 慕 彼   此 未 终   彼 勿 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图片 1" descr="20093404531014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1"/>
          <p:cNvSpPr/>
          <p:nvPr/>
        </p:nvSpPr>
        <p:spPr>
          <a:xfrm>
            <a:off x="357120" y="519120"/>
            <a:ext cx="9144000" cy="42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uān wéi  xiàn   jǐn  yòng gōng  gōng  fū  dào   zhì  sè  tō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宽 为 限     紧 用 功    工 夫 到    滞 塞 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īn  yǒu  yí       suí  zhá  jì     jiù   rén  wèn   qiú  què  yì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心 有 疑    随 札 记   就 人 问   求 确 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ng  shì  qīng  qiáng bì  jìng     jī  àn  jié      bǐ  yàn  zhè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房 室 清    墙 壁 净    几 案 洁   笔 砚 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ò  mó  piān   xīn  bù  duān    zì  bú  jìng    xīn  xiān  bì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墨 磨 偏    心 不 端    字 不 敬   心 先 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1" descr="20093404531014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"/>
          <p:cNvSpPr/>
          <p:nvPr/>
        </p:nvSpPr>
        <p:spPr>
          <a:xfrm>
            <a:off x="357120" y="455400"/>
            <a:ext cx="9144000" cy="47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iè  diǎn  jí      yǒu ding  chù   dú  kàn  bì    huán yuán  ch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列 典 籍   有 定 处   读 看 毕   还 原 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ī  yǒu  jí     juàn  shù  qí   yǒu  quē  huài   jiù  bǔ  zhī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虽 有 急   卷 束 齐   有 缺 坏    就 补 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ēi  shèng shū   bǐng wù  shì     bì  cōng míng   huài xīn  zhì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非 圣 书     屏 勿 视   敝 聪 明   坏 心 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ù   zì  bào      wù  zì   qì     shèng yǔ  xián    kě  xún  zh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勿 自 暴    勿 自 弃   圣 与 贤   可 驯 致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f5245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"/>
          <p:cNvSpPr/>
          <p:nvPr/>
        </p:nvSpPr>
        <p:spPr>
          <a:xfrm>
            <a:off x="-1500120" y="1444320"/>
            <a:ext cx="11287080" cy="34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ù zé xià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入则孝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ù  mǔ  hū    yìng  wù  huǎn   fù  mǔ  mìng   xíng  wù  lǎ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父 母 呼   应 勿 缓   父 母 命   行 勿 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ù  mǔ  jiào     xū  jìng  tīng    fù  mǔ  zé     xū  shùn ché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父 母 教   须 敬 听   父 母 责   须 顺 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f5245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"/>
          <p:cNvSpPr/>
          <p:nvPr/>
        </p:nvSpPr>
        <p:spPr>
          <a:xfrm>
            <a:off x="500040" y="1516320"/>
            <a:ext cx="91440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ōng zé  wēn   xià  zé  qìng   chén  zé  xǐng   hūn zé  dì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冬 则 温   夏 则 凊   晨 则 省   昏 则 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ū  bì  gào    fǎn  bì  miàn    jū  yǒu  cháng  yè  wú  bià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出 必 告   返 必 面   居 有 常   业 无 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500040" y="3723480"/>
            <a:ext cx="914400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ì  suī  xiǎo   wù  shàn  wéi   gǒu shàn wéi    zǐ  dào  kuī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事 虽 小   勿 擅 为   苟 擅 为   子 道 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ù  suī  xiǎo   wù  sī  cáng   gǒu  sī  cáng   qīn  xīn  shā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物 虽 小   勿 私 藏   苟 私 藏   亲 心 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f5245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"/>
          <p:cNvSpPr/>
          <p:nvPr/>
        </p:nvSpPr>
        <p:spPr>
          <a:xfrm>
            <a:off x="500040" y="1590840"/>
            <a:ext cx="9144000" cy="42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īn  suǒ  hào    lì   wèi  jù    qīn  suǒ  wù    jǐn  wèi  q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亲 所 好   力 为 具   亲 所 恶   谨 为 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ēn yǒu shāng   yí  qīn  yōu    dé  yǒu shāng   yí  qīn  xi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身 有 伤      贻 亲 忧   德 有 伤   贻 亲 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īn  ài  wǒ    xiào  hé  nán    qīn zēng  wǒ    xiào  fāng xiá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亲 爱 我   孝 何 难   亲 憎 我   孝 方 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īn  yǒu guò    jiàn  shǐ gēng     yí  wú  sè     róu  wú shē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亲 有 过    谏 使 更     怡 吾 色   柔 吾 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f5245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"/>
          <p:cNvSpPr/>
          <p:nvPr/>
        </p:nvSpPr>
        <p:spPr>
          <a:xfrm>
            <a:off x="500040" y="1455480"/>
            <a:ext cx="9144000" cy="47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jiàn  bú  rù     yuè  fù  jiàn    hào  qì  suí     tà  wú  yuà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谏 不 入   悦 复 谏   号 泣 随   挞 无 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īn  yǒu  jí    yào  xiān cháng  zhòu  yè  shì    bù  lí  chuá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亲 有 疾   药 先 尝     昼 夜 侍    不 离 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āng sān nián   cháng  bēi  yè   jū  chù  biàn    jiǔ  ròu  ju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丧 三 年     常 悲 咽    居 处 变   酒 肉 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āng  jìn  lǐ     jì   jìn  chéng   shì  sǐ  zhě     rú  shì  shē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丧 尽 礼   祭 尽 诚   事 死 者   如 事 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1" descr="200932606548976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"/>
          <p:cNvSpPr/>
          <p:nvPr/>
        </p:nvSpPr>
        <p:spPr>
          <a:xfrm>
            <a:off x="-1214280" y="802800"/>
            <a:ext cx="10358280" cy="37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Arial"/>
              </a:rPr>
              <a:t>chū  zé  tì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Arial"/>
              </a:rPr>
              <a:t>        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Arial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Arial"/>
              </a:rPr>
              <a:t>出 则 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Arial"/>
              </a:rPr>
              <a:t>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Arial"/>
              </a:rPr>
              <a:t>xiōng dào yǒu  dì  dào  gōng  xiōng dì  mù   xiào  zài  zhō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Arial"/>
              </a:rPr>
              <a:t>兄 道 友 弟 道 恭  兄 弟 睦  孝 在 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Arial"/>
              </a:rPr>
              <a:t>cái  wù  qīng  yuàn hé  shēng  yán  yǔ  rěn   fèn  zì  mǐ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Arial"/>
              </a:rPr>
              <a:t>财 物 轻  怨 何 生  言 语 忍  忿 自 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Arial"/>
              </a:rPr>
              <a:t>huò  yǐn  shí  huò zuò  zǒu  zhǎng zhě xiān  yòu  zhě  hò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Arial"/>
              </a:rPr>
              <a:t>或 饮 食 或 坐 走  长 者 先  幼 者 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785880" y="4574880"/>
            <a:ext cx="8072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zhǎng hū  rén    jí  dài  jiào           rén  bù  zài       jǐ   jí   dà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长 呼 人   即 代 叫      人 不 在   已 即 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图片 1" descr="200932606548976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"/>
          <p:cNvSpPr/>
          <p:nvPr/>
        </p:nvSpPr>
        <p:spPr>
          <a:xfrm>
            <a:off x="214200" y="1020240"/>
            <a:ext cx="9715680" cy="44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ēng zūn zhǎng  wù  hū  míng   duì zūn zhǎng   wù  xiàn  né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称 尊 长   勿 呼 名   对 尊 长   勿 见 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ù   yù  zhǎng   jí   qū   yī   zhǎng  wú  yán   tuì  gōng  lì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路 遇 长   疾 趋 揖   长 无 言   退 恭 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í  xià  mǎ    chéng  xià  jū   guò  yóu  dài    bǎi  bù  y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骑 下 马   乘 下 车   过 犹 待   百 步 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hǎng zhě  lì    yòu  wù  zuò  zhǎng zhě  zuò  mìng  nǎi zu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长 者 立   幼 勿 坐   长 者 坐   命 乃 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1" descr="200932606548976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1"/>
          <p:cNvSpPr/>
          <p:nvPr/>
        </p:nvSpPr>
        <p:spPr>
          <a:xfrm>
            <a:off x="214200" y="879120"/>
            <a:ext cx="9144000" cy="38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ūn zhǎng qián  shēng yào  dī     dī  bù  wén   què  fēi  y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尊 长 前     声 要 低     低 不 闻   却 非 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jìn  bì  qū        tuì  bì  chí       wèn  qǐ  duì       shì  wù  y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进 必 趋   退 必 迟   问 起 对   视 勿 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ì  zhū  fù      rú  shì  fù     shì  zhū  xiōng  rú  shì  xiō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事 诸 父   如 事 父   事 诸 兄   如 事 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1T08:11:35Z</dcterms:created>
  <dc:creator>雨林木风</dc:creator>
  <dc:description/>
  <dc:language>en-US</dc:language>
  <cp:lastModifiedBy>微软用户</cp:lastModifiedBy>
  <dcterms:modified xsi:type="dcterms:W3CDTF">2013-03-05T12:48:39Z</dcterms:modified>
  <cp:revision>171</cp:revision>
  <dc:subject/>
  <dc:title>幻灯片 1</dc:title>
</cp:coreProperties>
</file>