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7.gif" ContentType="image/gif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image1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4.png" ContentType="image/png"/>
  <Override PartName="/ppt/media/image13.gif" ContentType="image/gif"/>
  <Override PartName="/ppt/media/chimes.wav" ContentType="audio/x-wav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81D-1C7E-4162-9529-E19D98E6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651-62EA-4314-94AC-9FFB23F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CDA-4173-4D4A-B050-45D57B55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004-2445-4B43-9083-144C1EBA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F9C2-3C04-4D32-97BD-369D087A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C3D-620D-4DF8-B4A6-3CC755F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EC2C-C42D-4313-972B-2D631A8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D08D-8771-4C79-8E7E-369359F4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77B-EDB4-4E62-B547-DE99A55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5A26-B584-49CF-9D50-B3AB3FCD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630-2137-41F6-9FDC-D95D271D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CC7-E492-4043-9B6A-1C32C94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522F-DB4D-4EC0-919E-ACA4687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F42-3278-466F-B5F5-4758D44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7EC-2B1A-43B2-B203-2F963DE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963-484F-4BA7-AEBA-F5B236B4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78B2-3358-4EDA-9D68-51204D1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296-0FAA-4CFD-A87C-FD127694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B58-E7AB-4106-86BF-5D8CB56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2E1-B7F3-4D79-B9B9-465A26C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287-72E7-40DF-B9CD-FF22717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EEF-A4C0-4FC0-B3A5-3D8DEFF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A2C-B430-4352-A126-C2D3417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423-C1FC-4109-8FDC-80F9450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8FB2-8395-4BF2-8495-87A47466108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华文新魏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Click to edit the outline text format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1" marL="579240" indent="-222840">
              <a:spcBef>
                <a:spcPts val="1001"/>
              </a:spcBef>
              <a:buClr>
                <a:srgbClr val="eaeaea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econd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2" marL="89136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Third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3" marL="12481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Four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4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Fif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5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ix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6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even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DF93-80B5-4ECC-96D0-7EF2BC2B730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华文新魏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77flowersea.com/flower/five/five4.htm" TargetMode="External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n.rd.yahoo.com/home/imgsearch/topic/de/SIG=11pmmntmc/*http%3A//www.fzsf.net/home/014/tpq/FS014_1051671395.gif" TargetMode="External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rdsky.net/html/2001-5-11-5-46-45.html" TargetMode="Externa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yi.com.cn/flower/cyhh.asp" TargetMode="External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q01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818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8280" y="304920"/>
            <a:ext cx="5486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1434"/>
                </a:solidFill>
                <a:latin typeface="Times New Roman"/>
                <a:ea typeface="隶书"/>
              </a:rPr>
              <a:t>献给母亲的歌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6965ff"/>
                </a:solidFill>
                <a:latin typeface="Times New Roman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6965ff"/>
                </a:solidFill>
                <a:latin typeface="Times New Roman"/>
                <a:ea typeface="隶书"/>
              </a:rPr>
              <a:t>语文综合性活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　我国的母爱之花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我国也有一种母亲之花，它就是萱草花。萱草是百合科多年生草本植物，根茎肉质，叶狭长，细长的枝顶端开出桔红或桔黄色的花，十分艳丽，它不仅供人观赏，花蕾叫金针，也可作蔬菜供人食用，在我国南北方广为栽植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08" name=""/>
          <p:cNvSpPr/>
          <p:nvPr/>
        </p:nvSpPr>
        <p:spPr>
          <a:xfrm>
            <a:off x="341640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472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萱草.jpg (13162 字节)"/>
          <p:cNvPicPr/>
          <p:nvPr/>
        </p:nvPicPr>
        <p:blipFill>
          <a:blip r:embed="rId1"/>
          <a:stretch/>
        </p:blipFill>
        <p:spPr>
          <a:xfrm>
            <a:off x="5715000" y="42670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古诗中母亲花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远在《诗经、卫风、伯兮》里载： “焉得谖草，言树之背？”谖草就是萱草，古人又叫它忘忧草，背，北，指母亲住的北房。这句话的意思就是：我到那里弄到一支萱草，种在母亲堂前，让母亲乐而忘忧呢？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母亲住的屋子又叫萱堂，以萱草代替母爱，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如孟郊的游子诗：“萱草生堂阶，游子行天涯；慈母依堂前，不见萱草花。”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叶梦得的诗云：“白发萱堂上，孩儿更共怀。”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母亲节寄语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世界上的一切光荣和骄傲，都来自母亲。（高尔基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世界上有一种最美丽的声音，那便是母亲的呼唤（但丁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妈妈你在哪儿，哪儿就是最快乐的地方（英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aeaea"/>
              </a:solidFill>
              <a:latin typeface="幼圆"/>
              <a:ea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人的嘴唇所能发出的最甜美的字眼，就是母亲，最美好的呼唤，就是“妈妈”（纪伯伦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母爱是世间最伟大的力量 （米尔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在孩子的嘴上和心中，母亲就是上帝。（英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aeaea"/>
              </a:solidFill>
              <a:latin typeface="幼圆"/>
              <a:ea typeface="幼圆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全世界的母亲多么的相象！她们的心始终一样。 每一个母亲都有一颗极为纯真的赤子之心。（惠特曼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女人固然是脆弱的，母亲却是坚强的（法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没有无私的，自我牺牲的母爱的帮助，孩子的心灵将是一片荒漠。（英国）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　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  <a:ea typeface="宋体"/>
              </a:rPr>
              <a:t>  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黑体"/>
              </a:rPr>
              <a:t>母亲的诠释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仔细想想，原来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other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一词是可以这样解释的：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any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妈妈给了我很多很多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O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old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妈妈为我操心，白发已爬上了您的头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T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tears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为我流过不少泪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H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heart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有一颗慈祥温暖的心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E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eyes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注视我的目光总是充满着爱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R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right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从不欺骗我们，教导我们去做正确的事情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971800"/>
            <a:ext cx="1687320" cy="22096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3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81620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838080" y="1143000"/>
            <a:ext cx="601992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美文欣赏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黑体"/>
              </a:rPr>
              <a:t>游子吟</a:t>
            </a:r>
            <a:r>
              <a:rPr b="1" lang="zh-CN" sz="5400" spc="-1" strike="noStrike">
                <a:solidFill>
                  <a:srgbClr val="eaeaea"/>
                </a:solidFill>
                <a:latin typeface="幼圆"/>
                <a:ea typeface="幼圆"/>
              </a:rPr>
              <a:t>  </a:t>
            </a:r>
            <a:endParaRPr b="1" lang="en-US" sz="5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慈母手中线，游子身上衣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临行密密缝，意恐迟迟归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谁言寸草心，报得三春辉？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506600" cy="178884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5e"/>
            </a:gs>
            <a:gs pos="50000">
              <a:srgbClr val="ff33cc"/>
            </a:gs>
            <a:gs pos="100000">
              <a:srgbClr val="75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6880" y="457200"/>
            <a:ext cx="54864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母爱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伞，为你遮风挡雨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衣，为你送去温暖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灯，为你送去光明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光，照亮你的心灵。 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寒冷的年代里，母爱是温暖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温暖的年代里，母爱是关怀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文明的年代里，母爱是道德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欢乐的年代里，母爱是幸福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指南针，在迷路的时候为你指明方向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精神，为你扫除障碍的动力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明镜，照出你的缺点和不足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船舶，载你走向成功之路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痛苦中得到安慰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孤独中得到欢乐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失望中得到希望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冷落中得到幸福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。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7020000" y="6237360"/>
            <a:ext cx="288720" cy="144360"/>
          </a:xfrm>
          <a:custGeom>
            <a:avLst/>
            <a:gdLst>
              <a:gd name="textAreaLeft" fmla="*/ 9360 w 288720"/>
              <a:gd name="textAreaRight" fmla="*/ 279360 w 288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7" y="8406"/>
                </a:moveTo>
                <a:lnTo>
                  <a:pt x="18997" y="8406"/>
                </a:lnTo>
                <a:lnTo>
                  <a:pt x="23418" y="3794"/>
                </a:lnTo>
                <a:lnTo>
                  <a:pt x="23418" y="17806"/>
                </a:lnTo>
                <a:lnTo>
                  <a:pt x="18997" y="13194"/>
                </a:lnTo>
                <a:lnTo>
                  <a:pt x="14567" y="13194"/>
                </a:lnTo>
                <a:close/>
              </a:path>
              <a:path fill="darken" w="43146" h="21600">
                <a:moveTo>
                  <a:pt x="25072" y="10800"/>
                </a:moveTo>
                <a:lnTo>
                  <a:pt x="28580" y="10800"/>
                </a:lnTo>
              </a:path>
              <a:path fill="darken" w="43146" h="21600">
                <a:moveTo>
                  <a:pt x="25072" y="8406"/>
                </a:moveTo>
                <a:lnTo>
                  <a:pt x="28580" y="5639"/>
                </a:lnTo>
              </a:path>
              <a:path fill="darken" w="43146" h="21600">
                <a:moveTo>
                  <a:pt x="25072" y="13194"/>
                </a:moveTo>
                <a:lnTo>
                  <a:pt x="28580" y="15961"/>
                </a:lnTo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母爱无言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张</a:t>
            </a:r>
            <a:r>
              <a:rPr b="1" lang="zh-CN" sz="1800" spc="-1" strike="noStrike">
                <a:solidFill>
                  <a:srgbClr val="eaeaea"/>
                </a:solidFill>
                <a:latin typeface="幼圆"/>
                <a:ea typeface="宋体"/>
              </a:rPr>
              <a:t>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顺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</a:rPr>
              <a:t>【母亲节献礼】唱给天下母亲的歌</a:t>
            </a:r>
            <a:r>
              <a:rPr b="1" lang="zh-CN" sz="4000" spc="-1" strike="noStrike">
                <a:solidFill>
                  <a:srgbClr val="eaeaea"/>
                </a:solidFill>
                <a:latin typeface="华文新魏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有一个人，无论你走到哪里都舍不下对你的牵挂，她愿把自己的一生无私地奉献给你；有一种爱，它让你肆意地索取和享用，却不要你任何的回报……这一个人叫“母亲”，这一种爱叫“母爱”～！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愿你在母亲节这一天，听着一曲曲感人的歌的同时，把一些心里话和身边的妈妈说说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而身在他乡的游子，别忘了给家中的母亲打个电话报声平安，说上一句：“妈妈，节日快乐”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也可以把你对母亲的祝福用文字在这里表达出来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愿天下的母亲幸福、健康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平安度春秋～！</a:t>
            </a:r>
            <a:br>
              <a:rPr sz="3200"/>
            </a:b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母亲的心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叶倾城 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牵着母亲过马路</a:t>
            </a:r>
            <a:br>
              <a:rPr sz="1800"/>
            </a:b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                        佚名 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华文行楷"/>
                <a:ea typeface="华文行楷"/>
              </a:rPr>
              <a:t>单身母亲手记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   赵翼如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幼圆"/>
                <a:ea typeface="华文行楷"/>
              </a:rPr>
              <a:t>莲叶</a:t>
            </a:r>
            <a:r>
              <a:rPr b="1" lang="zh-CN" sz="1800" spc="-1" strike="noStrike">
                <a:solidFill>
                  <a:srgbClr val="eaeaea"/>
                </a:solidFill>
                <a:latin typeface="幼圆"/>
                <a:ea typeface="宋体"/>
              </a:rPr>
              <a:t>    冰心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亲情在这世间，总是让生活充溢着一份份平平常常但却恒久的温暖，亲情是贯穿生命始终的。为此，我们祝福天底下每一位母亲——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35" name=""/>
          <p:cNvSpPr/>
          <p:nvPr/>
        </p:nvSpPr>
        <p:spPr>
          <a:xfrm>
            <a:off x="1443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5715000"/>
            <a:ext cx="115416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21560" y="5054760"/>
            <a:ext cx="436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母亲节快乐！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487656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advTm="9000">
    <p:random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0037815113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10972800" cy="8534520"/>
          </a:xfrm>
          <a:prstGeom prst="rect">
            <a:avLst/>
          </a:prstGeom>
          <a:ln w="0">
            <a:noFill/>
          </a:ln>
        </p:spPr>
      </p:pic>
      <p:pic>
        <p:nvPicPr>
          <p:cNvPr id="89" name="11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3981240" cy="601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4280" y="11430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献给母亲节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母亲节的故事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90008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古母亲节起源于希腊，古希腊人在这一天向希腊神话中的众神之母赫拉致敬。</a:t>
            </a:r>
            <a:endParaRPr b="1" lang="en-US" sz="36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在</a:t>
            </a: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17</a:t>
            </a: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世纪中叶，母亲节流传到英国，英国人把封斋期的第四个星期天作为母亲节。在这一天里，出门在外的年青人将回到家中，给他们的</a:t>
            </a:r>
            <a:br>
              <a:rPr sz="3600"/>
            </a:b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母亲带上一些小礼物。</a:t>
            </a:r>
            <a:endParaRPr b="1" lang="en-US" sz="36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现代母亲节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现代意义上的母亲节起源于美国，由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·Jarvis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1864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－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1948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）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发起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她终身未婚，一直陪伴在她母亲身边，在母亲于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1905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年去世，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悲痛欲绝，两年后，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和她的朋友开始写信给有影响的部长、商人、议员来寻求支持，以便让母亲节成为一个法定的节日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认为子女经常忽视了对母亲的感情，她希望母亲节能够让人多想一想母亲为家庭所付出的一切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第一个母亲节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第一个母亲节于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908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年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5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月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0 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日在西弗吉尼亚和宾夕法尼亚州举行。 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913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年，美国国会通过了一份议案，将每年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5 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月的第二个星期天作为法定的母亲节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母亲之花</a:t>
            </a: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———</a:t>
            </a:r>
            <a:r>
              <a:rPr b="1" lang="zh-CN" sz="5400" spc="-1" strike="noStrike">
                <a:solidFill>
                  <a:srgbClr val="ff0000"/>
                </a:solidFill>
                <a:latin typeface="幼圆"/>
                <a:ea typeface="幼圆"/>
              </a:rPr>
              <a:t>康乃馨</a:t>
            </a:r>
            <a:endParaRPr b="1" lang="en-US" sz="5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在纤细青翠的花茎上，开出鲜艳美丽的花朵，花瓣紧凑而不易凋落，叶片秀长而不易卷曲，花朵雍容富丽，姿态高雅别致，色彩绚丽娇艳，更有那诱人的浓郁香气，甜醇幽雅，使人目迷心醉，这就是在母亲节赠给母亲的鲜花————康乃馨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01" name="" descr="fl-kangnaixin-3.jpg (9017 字节)"/>
          <p:cNvPicPr/>
          <p:nvPr/>
        </p:nvPicPr>
        <p:blipFill>
          <a:blip r:embed="rId1"/>
          <a:stretch/>
        </p:blipFill>
        <p:spPr>
          <a:xfrm>
            <a:off x="6172200" y="4191120"/>
            <a:ext cx="2370240" cy="26668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8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45720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eaeaea"/>
                </a:solidFill>
                <a:latin typeface="Times New Roman"/>
              </a:rPr>
              <a:t>母亲之花——康乃馨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来历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１９３４年的５月，美国首次发行母亲节纪念邮票，邮票上一位慈祥的母亲，双手放在膝上，欣喜地看着前面的花瓶中一束鲜艳美丽的康乃馨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随着邮票的传播，在许多人的心目中把母亲节与康乃馨联系起来，康乃馨便成了象征母爱之花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人们把思念母亲、孝敬母亲的感情，寄托于康乃馨上，康乃馨也成为了赠送母亲不可缺少的珍贵礼品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2:19:18Z</dcterms:created>
  <dc:creator>张璇（人大附中）</dc:creator>
  <dc:description/>
  <cp:keywords/>
  <dc:language>en-US</dc:language>
  <cp:lastModifiedBy>Lenovo User</cp:lastModifiedBy>
  <dcterms:modified xsi:type="dcterms:W3CDTF">2010-09-25T03:01:30Z</dcterms:modified>
  <cp:revision>85</cp:revision>
  <dc:subject>母亲节</dc:subject>
  <dc:title>母亲节的来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962052</vt:lpwstr>
  </property>
</Properties>
</file>