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7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DD5-2936-4E13-B2DF-1021AB3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889-7A27-4815-84A9-5267B529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2D64-D5A4-4778-99EC-CE3DD4E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D35F3-6E73-4A49-8A7F-C7C120F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9269A-2333-41CF-A1F7-41406BF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8C121-3619-4F68-8000-2EE607F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DFFF7-2A17-4CCB-A54C-7B45866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C4E0A-B684-420F-BB2F-3CCB1E7D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E7D88-B52F-4F21-A278-68BFDA58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F62B-440A-43A2-862E-ECFF617C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3B98D-6E15-45D3-9780-72C9BC06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BC44D-AF7E-4C92-AC26-FDBA6A70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D07-7A5B-451F-A276-BC0304CA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C8D6D-AA9E-4930-8071-1F9E074D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A2BEA-6B8F-4BE7-9C24-B67795EC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C67DD-DEC2-40DC-A793-1A38D774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54566-8A4B-4E65-999D-52C3D7D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2BF04-D671-47EF-8C6F-7F80356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2F956-E5A8-4CCD-A67E-0E2E3F5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EBEB9-07D9-4E05-A6B7-66D4856D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D575-911D-49E7-9E09-9416F5F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A9652-32DF-495A-8ADA-4A83F80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6B8F9-812C-45E6-BB2B-1B709C92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62F-9B90-4118-A69C-B07B055A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E2D7A-C552-4EA7-91F4-44F65794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5A0A0-1702-466B-BF1A-1C29017F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67455-7540-495F-90D2-A528BD9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686AE-5442-4956-8EB3-9A869FA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68860-AC15-41C3-863F-F0DE3912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6AA7-C207-4E01-922B-87B17D74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CD248-BE27-4A88-9191-599D8D5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BF508-F54C-4CCD-A970-FC29E31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BEADB-F05E-48BB-AE68-D7D79FF4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E5148-0437-42DC-B021-604F318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FBC6-8DD8-4FF0-87C8-90D11B75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B0C53-CD58-432A-84CD-1EE6F6FF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4563A-1725-4B27-A53D-390FB0C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C49CC-FCC9-4FF6-8A74-55FFB56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EFBF7-A778-4772-BBDD-D12682CE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93EFC-4505-49FD-99A4-A13C168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450F9-EADD-477C-B299-4868D7A7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943C4-8646-47E9-B9F0-CC011F7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CDE0B-9A7D-4C0B-B314-9509CBD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0BDDD-F6BA-4C90-9D6B-E1929D58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177FC-9CD7-40D0-9568-E21CC15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B0D7-0449-4A13-BEC2-E510DFF5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52054-4698-4055-A69A-3AD9530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F6A4A-3ABD-4094-9894-37E07109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81939-65B6-4C37-BBE2-F1F144C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0AA03-3B9D-4692-B836-12560F1F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2FFFD-E47C-4AE7-A21A-2C8FC794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679F8-C924-4301-9E99-343CD5B3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ED798-9440-470D-8EA9-060E2771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5548A-8D3D-4CAC-BB52-C9F86CD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0242C-4E14-4F92-94B0-F6986F9F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C8217-7C36-4D9D-8196-D05535C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7215-30E5-4C68-98BC-0C067D08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5502C-765F-4ADF-817D-17CD34D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57DE7-3209-4459-8410-181DA847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280A6-EE6A-470B-833B-488F8EC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9C5E4-D002-4031-A0C4-CCD7435F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F0D4E-83EA-4B6C-9DD6-1F2A3AD4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8D56E-4D18-464E-B8CC-2090875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44698-8668-4E19-8758-36D34BF5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569-96FE-4018-B77B-6BB0FCD5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C293-38D2-45CA-91F9-10E549A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E9B2-7764-4057-AAA4-EA86F00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3673-0258-446E-BEDE-4551CA3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2AF-8AD5-43E3-8AFF-4C92B95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D41F-522C-4E4D-983F-F0B15C3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157D-D592-4443-9B56-B1F2FC1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BE2C-73EA-4532-A36C-CDF9D0F1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BB3E-B427-4868-B008-2B080273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725C-7B47-4A1E-9DC6-F5CAC50E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002C-E835-4531-8CA7-A62BA16E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43D8-604B-4AFC-A350-0408E3B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E14E-57C5-43C0-A602-83BCE56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D212-23F7-4981-89D6-685E01E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6E34-17F9-4FBA-9D3A-F5AC729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125-CB9E-41B7-A822-454388F2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5B3C-4BE6-4487-8CBA-57EC55B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8129-BF41-4289-A759-EE2C2AB9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6BD5-1A95-4C12-AE2D-1685DC9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FC0B-DDFC-4F6D-8FBD-2C90AB3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1BF7-936B-4774-9D38-4A1D7A4B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790C-9C92-4835-BBA1-788B6F9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8463-6C19-4FE4-8E87-7C45C79C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1ADC6-AA3C-44CE-A82D-9ACB4621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CC65-73EE-4D10-AC56-E107E52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9E7C-54BC-4FBD-B1EF-130F0CA0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87A-0384-4E63-9F7D-D4DDA00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1B66B-5D3C-43E8-8285-24E96D98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F931-2934-4D3E-B7B7-CDD060E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722A-3A13-4764-991D-36D3190C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F23D-9241-4BBB-9377-8442BB6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ECDD-E732-4B23-832C-8A0E9BD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1C0A-F898-42E4-9329-B8F69D7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D6F9-1AD4-4C0E-9C19-01DBA6F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3491-C9D2-4BD1-B63D-769D6EEC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B699-B1BC-4E17-979A-1095892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6661-40F6-4489-A401-894328EE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DA8-1EE2-450C-AAC8-F910FAC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FAA25-A05F-4A5D-81A6-34CD31C1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0ECB-FA19-4C6F-9C32-B5DB9C8B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D98D-143C-4745-96BD-9FB3F04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0C5B-45E8-4B3E-BF32-F8A4848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4463-0BE2-45CB-843F-40A4EC8D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9519A-9889-438B-B8A4-5F1FDDD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987C-8BEE-4920-B21D-4A57A24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FB88-40A0-40CB-A102-A37F701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9341F-8857-4624-800F-FBBDD2B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0CECB-F300-41A9-ACF2-3B05026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132-04A4-40DA-B1FF-8C8A410E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5217-75A3-4C69-8902-4DD5EBB3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A174-21C2-4BDA-84DF-8F930AB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FF848-6148-4182-A3F0-D375333D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C4E83-1E8D-4F20-A952-8D4F95C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478B-A527-41EC-A6B1-99F9E96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77EE-7ADA-4DAA-8E71-47CBFDAF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097C6-70E2-4AF8-AC03-520982C5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A327-1F91-4469-9CC4-508A6487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3498-1689-4269-A0F0-3DDC052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021A6-EFF7-4117-8FEA-429FF93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BDC-D373-45EC-8DD6-4D525457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BA7E-4D71-4F6D-91E7-BDB2ABB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C6C9C-7E8E-4138-88BD-F2F9810D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1403D-D8BD-4F06-8BAD-6691604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4105-C9C8-4AB2-AE33-AA3B3A3B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4E33-5858-449A-A6A1-3CA86A5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AF64-0E59-42D4-B634-1FFA2D9D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21BA-BB55-47A1-BDC6-3D56B054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2377-F082-4F47-9007-63A97033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C6E6E-03B5-4E4D-BE9C-9B163C6D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2351-50B7-4B31-AACC-2E84038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CC8-2011-4253-AD7B-77DFCFF1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1158C-B453-4327-B9F9-EE52EEC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3D5F-2EA9-475C-B256-BB40733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EAE1-3E2F-45D3-9FAF-9C7E7FD5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7FC0-0E6F-4671-8B5C-D553A7E3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6586-69B1-445A-8A15-0EADD233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E339-A208-4864-BFE9-037DB676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02DE-F849-4E16-904E-1CCF5248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AFE66-8CE5-42EE-9377-BA3BBF9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9B303-47F5-440D-A710-343B2D25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B998-1A55-41E9-ABAA-786EB545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62D-FD64-4060-854C-FBDBE9D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B652-4E5F-4FCE-9D1A-CC1F414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137B-8F44-4646-81A6-CA0BFAC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8643E-8663-43FD-B55F-5B66606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14EB5-0252-47DF-AB88-7B2F1C2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5EA18-8AD3-4DE8-B0C1-CF57CE0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E828-6DB5-4DAA-84A8-29259664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7F572-7891-4EA2-B649-099D68EB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603E3-FDB1-4E03-8270-EB728FE4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FC801-07A3-4C81-B192-D0FD1483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2C7C3-1129-4810-ACEC-355A674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6C6F-74E6-406A-A80E-31643EE4BF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C5F-754D-459A-B72B-9989D16F92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C8E-E9BA-4597-904A-1BF580E28D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55CE-4401-4A0C-B5EB-355AE9A95C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AFA-D5C4-408E-A9C6-7D785A0C84C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D238-F3DD-4227-A418-E46F0DE0BF4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E9B9-969D-497A-AAAF-C14681DDE89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5919-09BD-4267-AB3A-D3605E4665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B258-DE73-4206-99CC-64331DD3AB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35CC-1A15-440D-9C98-B6E3C944410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DBA3-E09F-4461-99E9-A975F24023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DB47-49EB-4769-86CC-9DB9A1A6E7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183-6D60-438B-8E10-F964D3D1B8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2B06-E3E0-4EB4-AFB1-D2C78B3D68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981-CF19-40B8-9371-43C60F1824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F7F4-56D9-4087-BE03-1A7B42D7D4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E57F-4394-42BB-9F39-4696A9712C6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1726-87D2-4D9E-9817-DF4EFB0420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5D1F-BDFA-4498-A4C1-55604EFDF7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E29B-8558-4259-AA25-CD81EE8B52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7E26-E1D6-43C0-B7F1-920D164E4C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FBD8-DDA1-45E4-8831-DB6A1A7B50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41A-16A0-4E8C-8EA6-022245A81F8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C03A-841B-44D3-B89D-A82107860B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1922-665A-4689-A8CD-EE92912FC02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1F34-557F-4A8D-97EA-14B58253BD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3"/>
          <p:cNvSpPr/>
          <p:nvPr/>
        </p:nvSpPr>
        <p:spPr>
          <a:xfrm>
            <a:off x="1750320" y="4143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4"/>
          <p:cNvSpPr/>
          <p:nvPr/>
        </p:nvSpPr>
        <p:spPr>
          <a:xfrm>
            <a:off x="4854600" y="3616200"/>
            <a:ext cx="436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您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406800" y="26028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2017-5-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2357280" y="128592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五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       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春花烂漫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1"/>
          <p:cNvSpPr/>
          <p:nvPr/>
        </p:nvSpPr>
        <p:spPr>
          <a:xfrm>
            <a:off x="642960" y="571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我采一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"/>
          <p:cNvSpPr/>
          <p:nvPr/>
        </p:nvSpPr>
        <p:spPr>
          <a:xfrm>
            <a:off x="3949200" y="1285920"/>
            <a:ext cx="304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最芬芳的康乃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8" descr=""/>
          <p:cNvPicPr/>
          <p:nvPr/>
        </p:nvPicPr>
        <p:blipFill>
          <a:blip r:embed="rId2"/>
          <a:stretch/>
        </p:blipFill>
        <p:spPr>
          <a:xfrm>
            <a:off x="7812000" y="2552760"/>
            <a:ext cx="2610000" cy="43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6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601"/>
                            </p:stCondLst>
                            <p:childTnLst>
                              <p:par>
                                <p:cTn id="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50486 0.00278 E">
                                      <p:cBhvr>
                                        <p:cTn id="44" dur="3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601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801"/>
                            </p:stCondLst>
                            <p:childTnLst>
                              <p:par>
                                <p:cTn id="50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0486 0.00278 L -1.18212 0.00278 E">
                                      <p:cBhvr>
                                        <p:cTn id="51" dur="3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6" descr=""/>
          <p:cNvPicPr/>
          <p:nvPr/>
        </p:nvPicPr>
        <p:blipFill>
          <a:blip r:embed="rId2"/>
          <a:srcRect l="0" t="5747" r="0" b="0"/>
          <a:stretch/>
        </p:blipFill>
        <p:spPr>
          <a:xfrm>
            <a:off x="6364440" y="1550880"/>
            <a:ext cx="2779560" cy="5307120"/>
          </a:xfrm>
          <a:prstGeom prst="rect">
            <a:avLst/>
          </a:prstGeom>
          <a:ln w="0">
            <a:noFill/>
          </a:ln>
        </p:spPr>
      </p:pic>
      <p:sp>
        <p:nvSpPr>
          <p:cNvPr id="541" name="TextBox 1"/>
          <p:cNvSpPr/>
          <p:nvPr/>
        </p:nvSpPr>
        <p:spPr>
          <a:xfrm>
            <a:off x="785880" y="100008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别在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>
            <a:off x="4460760" y="5589720"/>
            <a:ext cx="806400" cy="1657080"/>
          </a:xfrm>
          <a:prstGeom prst="rect">
            <a:avLst/>
          </a:prstGeom>
          <a:ln w="0">
            <a:noFill/>
          </a:ln>
        </p:spPr>
      </p:pic>
      <p:sp>
        <p:nvSpPr>
          <p:cNvPr id="543" name="矩形 5"/>
          <p:cNvSpPr/>
          <p:nvPr/>
        </p:nvSpPr>
        <p:spPr>
          <a:xfrm>
            <a:off x="3090240" y="20718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那淡雅的衣襟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7" descr=""/>
          <p:cNvPicPr/>
          <p:nvPr/>
        </p:nvPicPr>
        <p:blipFill>
          <a:blip r:embed="rId4"/>
          <a:stretch/>
        </p:blipFill>
        <p:spPr>
          <a:xfrm rot="21359400">
            <a:off x="9302760" y="301320"/>
            <a:ext cx="669960" cy="652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"/>
          <p:cNvPicPr/>
          <p:nvPr/>
        </p:nvPicPr>
        <p:blipFill>
          <a:blip r:embed="rId5"/>
          <a:stretch/>
        </p:blipFill>
        <p:spPr>
          <a:xfrm flipH="1" rot="1652400">
            <a:off x="-919080" y="2127240"/>
            <a:ext cx="1046160" cy="7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8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8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4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401"/>
                            </p:stCondLst>
                            <p:childTnLst>
                              <p:par>
                                <p:cTn id="7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36181 -0.13148 E">
                                      <p:cBhvr>
                                        <p:cTn id="72" dur="3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401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402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7 4.81481E-006 C -0.0743 -0.02454 -0.12951 -0.04908 -0.17691 -0.04977 C -0.22413 -0.05047 -0.26701 -0.02755 -0.30312 -0.00463 C -0.33941 0.01828 -0.36198 0.08842 -0.39427 0.08773 C -0.42621 0.08703 -0.45416 -0.00116 -0.49496 -0.0095 C -0.53559 -0.01783 -0.58541 0.00879 -0.63906 0.03796 C -0.69288 0.06712 -0.80208 0.11481 -0.81684 0.1662 C -0.83142 0.21759 -0.79184 0.31412 -0.72795 0.34675 C -0.66406 0.37939 -0.43663 0.32939 -0.43368 0.36087 C -0.43055 0.39236 -0.66389 0.50532 -0.71007 0.53449 E">
                                      <p:cBhvr>
                                        <p:cTn id="80" dur="5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2.59259E-006 C 0.01181 -0.02384 0.01511 -0.02013 0.03108 -0.03217 C 0.03473 -0.03495 0.03785 -0.03842 0.04132 -0.04143 C 0.04427 -0.04421 0.05174 -0.04606 0.05174 -0.04606 C 0.06042 -0.04537 0.0691 -0.0456 0.07761 -0.04375 C 0.08143 -0.04282 0.08542 -0.03449 0.08802 -0.03217 C 0.09341 -0.02731 0.10087 -0.02476 0.10695 -0.02314 C 0.11737 -0.02476 0.12796 -0.02453 0.13802 -0.02777 C 0.14462 -0.02986 0.14688 -0.05115 0.15174 -0.05532 C 0.1599 -0.0625 0.16441 -0.07037 0.17414 -0.07361 C 0.18091 -0.06898 0.1849 -0.0625 0.19132 -0.05763 C 0.19653 -0.0537 0.19896 -0.05347 0.20348 -0.04838 C 0.21216 -0.03865 0.20469 -0.04328 0.21389 -0.03912 C 0.22014 -0.03981 0.22674 -0.03888 0.23282 -0.04143 C 0.23473 -0.04236 0.23473 -0.04652 0.23629 -0.04838 C 0.2382 -0.05046 0.2408 -0.05138 0.24306 -0.05301 C 0.2441 -0.05532 0.24514 -0.05787 0.24653 -0.05995 C 0.24862 -0.06319 0.25174 -0.06551 0.25348 -0.06898 C 0.25521 -0.07245 0.25556 -0.07685 0.25695 -0.08055 C 0.26355 -0.09791 0.28438 -0.12314 0.29827 -0.1287 C 0.30868 -0.12801 0.3191 -0.12847 0.32934 -0.12662 C 0.34341 -0.1243 0.35174 -0.10648 0.36389 -0.10115 C 0.37483 -0.09027 0.37205 -0.08888 0.38629 -0.09213 C 0.39584 -0.09652 0.40434 -0.10393 0.41389 -0.1081 C 0.42084 -0.1074 0.42796 -0.10833 0.43455 -0.10578 C 0.44584 -0.10162 0.45139 -0.08379 0.46042 -0.07592 C 0.46459 -0.05393 0.45834 -0.08055 0.46893 -0.05763 C 0.47014 -0.05486 0.46841 -0.04907 0.47066 -0.04838 C 0.48195 -0.0449 0.49375 -0.04676 0.50521 -0.04606 C 0.5224 -0.02314 0.49757 0.00649 0.52587 0.01598 C 0.54323 0.03149 0.53542 0.06135 0.53802 0.08727 C 0.53924 0.09931 0.55191 0.10718 0.55695 0.11713 C 0.55643 0.12246 0.55712 0.12848 0.55521 0.13334 C 0.554 0.13681 0.55035 0.13727 0.54827 0.14005 C 0.54271 0.14723 0.54011 0.15787 0.53455 0.16551 C 0.53577 0.17477 0.53629 0.18403 0.53802 0.19306 C 0.53959 0.2007 0.54775 0.20625 0.55174 0.21135 C 0.54914 0.22524 0.54809 0.22176 0.53802 0.22524 C 0.52136 0.24005 0.54289 0.24769 0.55 0.25278 C 0.55712 0.25787 0.56355 0.26436 0.57066 0.26899 C 0.59618 0.28519 0.62257 0.29607 0.65 0.30348 C 0.66198 0.31389 0.65643 0.31065 0.66546 0.31482 C 0.66563 0.31505 0.67414 0.32732 0.67587 0.32639 C 0.67865 0.325 0.67952 0.31343 0.68108 0.31019 C 0.68299 0.30602 0.68577 0.30255 0.68802 0.29885 C 0.68855 0.29653 0.68785 0.29213 0.68959 0.2919 C 0.69827 0.29051 0.70209 0.29537 0.70521 0.30348 C 0.70608 0.30556 0.70573 0.30857 0.70695 0.31019 C 0.70782 0.31135 0.70921 0.31019 0.71042 0.31019 E">
                                      <p:cBhvr>
                                        <p:cTn id="82" dur="5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"/>
          <p:cNvSpPr/>
          <p:nvPr/>
        </p:nvSpPr>
        <p:spPr>
          <a:xfrm rot="20763600">
            <a:off x="1054440" y="966960"/>
            <a:ext cx="463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我感谢您赐给了我生命，是您教会了我做人的道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现在、将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永远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3" descr=""/>
          <p:cNvPicPr/>
          <p:nvPr/>
        </p:nvPicPr>
        <p:blipFill>
          <a:blip r:embed="rId2"/>
          <a:stretch/>
        </p:blipFill>
        <p:spPr>
          <a:xfrm>
            <a:off x="2428920" y="2617920"/>
            <a:ext cx="3054240" cy="4240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4" descr=""/>
          <p:cNvPicPr/>
          <p:nvPr/>
        </p:nvPicPr>
        <p:blipFill>
          <a:blip r:embed="rId2"/>
          <a:stretch/>
        </p:blipFill>
        <p:spPr>
          <a:xfrm>
            <a:off x="285840" y="303120"/>
            <a:ext cx="6500880" cy="4662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5" descr=""/>
          <p:cNvPicPr/>
          <p:nvPr/>
        </p:nvPicPr>
        <p:blipFill>
          <a:blip r:embed="rId3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  <p:sp>
        <p:nvSpPr>
          <p:cNvPr id="550" name="矩形 1"/>
          <p:cNvSpPr/>
          <p:nvPr/>
        </p:nvSpPr>
        <p:spPr>
          <a:xfrm>
            <a:off x="500040" y="571680"/>
            <a:ext cx="5572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没有您就没有我，就没有我数十寒暑的快乐，也没有我春夏秋冬的欢笑，谢谢您给了我生命中美好的一切与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妈妈，我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3" descr=""/>
          <p:cNvPicPr/>
          <p:nvPr/>
        </p:nvPicPr>
        <p:blipFill>
          <a:blip r:embed="rId4"/>
          <a:stretch/>
        </p:blipFill>
        <p:spPr>
          <a:xfrm rot="19984800">
            <a:off x="7007040" y="4885920"/>
            <a:ext cx="1495080" cy="192420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3" descr=""/>
          <p:cNvPicPr/>
          <p:nvPr/>
        </p:nvPicPr>
        <p:blipFill>
          <a:blip r:embed="rId2"/>
          <a:stretch/>
        </p:blipFill>
        <p:spPr>
          <a:xfrm>
            <a:off x="2428920" y="84240"/>
            <a:ext cx="6500880" cy="4987800"/>
          </a:xfrm>
          <a:prstGeom prst="rect">
            <a:avLst/>
          </a:prstGeom>
          <a:ln w="0">
            <a:noFill/>
          </a:ln>
        </p:spPr>
      </p:pic>
      <p:sp>
        <p:nvSpPr>
          <p:cNvPr id="553" name="矩形 1"/>
          <p:cNvSpPr/>
          <p:nvPr/>
        </p:nvSpPr>
        <p:spPr>
          <a:xfrm>
            <a:off x="3143160" y="7142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您在我眼中永远是最美的，每一个微笑都让我幸福。太多的语言也无法向您表达我对您深深的爱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"/>
          <p:cNvSpPr/>
          <p:nvPr/>
        </p:nvSpPr>
        <p:spPr>
          <a:xfrm>
            <a:off x="3143160" y="299412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爱您，亲爱的妈妈！祝您母亲节快乐，永远年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4" descr=""/>
          <p:cNvPicPr/>
          <p:nvPr/>
        </p:nvPicPr>
        <p:blipFill>
          <a:blip r:embed="rId3"/>
          <a:stretch/>
        </p:blipFill>
        <p:spPr>
          <a:xfrm>
            <a:off x="5076720" y="4214880"/>
            <a:ext cx="905040" cy="16761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6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343160" cy="2762280"/>
          </a:xfrm>
          <a:prstGeom prst="rect">
            <a:avLst/>
          </a:prstGeom>
          <a:ln w="0">
            <a:noFill/>
          </a:ln>
        </p:spPr>
      </p:pic>
      <p:sp>
        <p:nvSpPr>
          <p:cNvPr id="557" name="矩形 7"/>
          <p:cNvSpPr/>
          <p:nvPr/>
        </p:nvSpPr>
        <p:spPr>
          <a:xfrm>
            <a:off x="5000760" y="4071960"/>
            <a:ext cx="32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爱您的宝贝女儿：晨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011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8">
            <a:hlinkClick r:id="" action="ppaction://hlinkshowjump?jump=firstslide"/>
          </p:cNvPr>
          <p:cNvSpPr/>
          <p:nvPr/>
        </p:nvSpPr>
        <p:spPr>
          <a:xfrm>
            <a:off x="3593160" y="5934240"/>
            <a:ext cx="24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ush Script MT"/>
                <a:ea typeface="楷体_GB2312"/>
              </a:rPr>
              <a:t>Re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9" descr=""/>
          <p:cNvPicPr/>
          <p:nvPr/>
        </p:nvPicPr>
        <p:blipFill>
          <a:blip r:embed="rId5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7059 0.00393 E">
                                      <p:cBhvr>
                                        <p:cTn id="127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5723E-006 C 0.00087 -0.00069 0.00278 -0.00046 0.00399 -0.00208 C 0.00521 -0.0037 0.00434 -0.00716 0.00573 -0.00855 C 0.00764 -0.01109 0.01441 -0.01271 0.01441 -0.01248 C 0.01892 -0.02266 0.01528 -0.01826 0.02587 -0.02335 C 0.02743 -0.02404 0.03003 -0.02543 0.03003 -0.0252 C 0.04271 -0.02242 0.03507 -0.0252 0.0434 -0.02104 C 0.04583 -0.01965 0.04913 -0.01826 0.05191 -0.01687 C 0.05312 -0.01618 0.05642 -0.01479 0.05642 -0.01456 C 0.05746 -0.01063 0.05851 -0.00624 0.0592 -0.00208 C 0.06042 0.0037 0.07274 0.00555 0.075 0.00625 C 0.08646 0.00463 0.08993 0.00578 0.09844 -0.00208 C 0.10208 -0.00994 0.10677 -0.01595 0.11285 -0.01896 C 0.11476 -0.01872 0.12743 -0.01942 0.13038 -0.01271 C 0.13177 -0.00901 0.13038 -0.00138 0.13316 -3.75723E-006 C 0.13611 0.00139 0.14201 0.00417 0.14201 0.0044 C 0.19097 0.00139 0.16684 0.00602 0.18854 -0.00416 C 0.19149 -0.01133 0.19531 -0.01318 0.19722 -0.02104 C 0.23403 -0.01734 0.20625 -0.02497 0.22326 -0.00855 C 0.22639 0.00486 0.23299 -0.00069 0.24201 -0.00208 C 0.24462 -0.01341 0.24965 -0.02104 0.25642 -0.02751 C 0.25764 -0.02705 0.2651 -0.02474 0.26684 -0.02335 C 0.26805 -0.02219 0.26858 -0.02011 0.26979 -0.01896 C 0.27344 -0.01572 0.27847 -0.01271 0.28299 -0.01063 C 0.28594 -0.00555 0.29427 0.00208 0.29427 0.00232 C 0.30555 -0.00323 0.29861 -0.00346 0.30469 -0.01687 C 0.30573 -0.01896 0.30677 -0.02104 0.30729 -0.02335 C 0.31111 -0.03491 0.30903 -0.03815 0.31753 -0.04231 C 0.32726 -0.03792 0.31788 -0.04416 0.32326 -0.03375 C 0.32448 -0.03167 0.32639 -0.03098 0.32795 -0.02959 C 0.33125 -0.01456 0.32917 -0.02057 0.33368 -0.01063 C 0.33472 -0.00647 0.3368 0.00208 0.3368 0.00232 E">
                                      <p:cBhvr>
                                        <p:cTn id="149" dur="3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63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21:42:00Z</dcterms:created>
  <dc:creator>陈静</dc:creator>
  <dc:description/>
  <cp:keywords/>
  <dc:language>en-US</dc:language>
  <cp:lastModifiedBy>Administrator</cp:lastModifiedBy>
  <dcterms:modified xsi:type="dcterms:W3CDTF">2017-05-13T03:33:13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